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29E-C404-42CD-BDFA-A599656D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E43-36DF-4420-BE87-0046E77C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546-E079-4AEA-BC82-1286CC0C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DD9-612B-42C2-BF21-9AFB2696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DFE-BFCB-4B85-9652-9BC4CDC9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F41-AE0C-4D86-B66D-60651C7E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676-2D74-46BE-9968-13C219CA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BE1-4A49-4BB4-9F88-DD7C0F19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CFA-4239-4E41-8FA1-A91FA47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46E-C041-4F46-8396-5E3043DC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7A4-14B9-418F-AB04-858AE25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4E7-2D43-426E-890B-159C3834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7A8C-5DEE-445D-B2E6-69B9AF15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066680"/>
            <a:ext cx="64008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000000"/>
                  </a:solidFill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&amp;M'S</a:t>
            </a:r>
            <a:endParaRPr b="0" lang="en-US" sz="1800" spc="1" strike="noStrike">
              <a:ln w="0">
                <a:solidFill>
                  <a:srgbClr val="000000"/>
                </a:solidFill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7150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Matt 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Compute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60984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Mars"/>
          <p:cNvPicPr/>
          <p:nvPr/>
        </p:nvPicPr>
        <p:blipFill>
          <a:blip r:embed="rId1"/>
          <a:srcRect l="44871" t="0" r="0" b="0"/>
          <a:stretch/>
        </p:blipFill>
        <p:spPr>
          <a:xfrm>
            <a:off x="4724280" y="3706920"/>
            <a:ext cx="4419720" cy="315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Mars"/>
          <p:cNvPicPr/>
          <p:nvPr/>
        </p:nvPicPr>
        <p:blipFill>
          <a:blip r:embed="rId2"/>
          <a:srcRect l="0" t="0" r="51286" b="0"/>
          <a:stretch/>
        </p:blipFill>
        <p:spPr>
          <a:xfrm>
            <a:off x="0" y="0"/>
            <a:ext cx="441972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7680" y="35416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ma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ion: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 M&amp;M’S were being produced in Newark, 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 year later, during World War 2, the candy became popular to soldiers because they were easy to move to different places and could stand high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On 1945 the war ended, and M&amp;M’S became open to  the public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 1950 they started imprinting a the letter “M” on it to ensure customers they were getting the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 1954 M&amp;M peanuts were introduced and the black “M” imprint was changed to wh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d6bf"/>
                </a:solidFill>
                <a:latin typeface="Arial"/>
              </a:rPr>
              <a:t>Inventor: Forrest E.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Born on march 21, 1901 in Minnes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Was raised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Went to university of California at Berkley and later transferred to Yale university where he got a degree in industrial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Worked in England for Nestle and Todler. He also set up a small candy factory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d6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d6bf"/>
                </a:solidFill>
                <a:latin typeface="Arial"/>
              </a:rPr>
              <a:t>Moved to united states and opened a gourmet dog food business and Uncle Ben’s rice line. Later moved to candy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45Z</dcterms:created>
  <dc:creator>install</dc:creator>
  <dc:description/>
  <dc:language>en-US</dc:language>
  <cp:lastModifiedBy>install</cp:lastModifiedBy>
  <dcterms:modified xsi:type="dcterms:W3CDTF">2011-03-11T18:31:22Z</dcterms:modified>
  <cp:revision>13</cp:revision>
  <dc:subject/>
  <dc:title>Slide 1</dc:title>
</cp:coreProperties>
</file>